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44F4-1A00-444D-893D-331FB8F8A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D945-C773-4A19-B90E-9B7D46E1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4DEF-DC20-46E4-9FBB-50264BA75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822D-D5BB-4941-81DD-9FA41485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670E-1951-490B-A9B4-F56A2A13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BEB4-91B5-4FAD-A21F-686F1DB1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9616-3A29-434E-AE0B-560AE5A7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E331-0FFA-49BD-A7B9-340996B3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3A79-E9DD-497B-AA49-154D62FF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C179-CFEC-48D9-9D63-86D6688C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2BD7-E746-4044-A800-FE603FC4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77EC-FBC1-4FBD-A6FA-0E4F1BF8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757E-DC10-4EFF-A2DE-CAB6EB994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2520" y="4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33360"/>
            <a:ext cx="8229600" cy="594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00000"/>
                </a:solidFill>
                <a:latin typeface="Comic Sans MS"/>
              </a:rPr>
              <a:t>I can be the boss of my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00000"/>
                </a:solidFill>
                <a:latin typeface="Comic Sans MS"/>
              </a:rPr>
              <a:t>angry feeli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1828800" cy="1554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46440" y="4219560"/>
            <a:ext cx="1882800" cy="160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60760" y="4105440"/>
            <a:ext cx="1828800" cy="1554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175440" y="4105440"/>
            <a:ext cx="1942920" cy="163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5032440" y="2390760"/>
            <a:ext cx="2017800" cy="1714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803160" y="4105440"/>
            <a:ext cx="1600200" cy="1347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769080" y="2505240"/>
            <a:ext cx="1600200" cy="1360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3546360" y="2276640"/>
            <a:ext cx="1581120" cy="1344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2060640" y="2733840"/>
            <a:ext cx="174780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95360" y="3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260280"/>
            <a:ext cx="8424720" cy="318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When I feel angry I c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Stop and think about the best thing to 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66720" y="1974960"/>
            <a:ext cx="1365120" cy="1168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067200" y="1860480"/>
            <a:ext cx="1355400" cy="1168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24000" y="3573360"/>
            <a:ext cx="8424720" cy="306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When I feel angry I can no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Yell nasty things at the person who upset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067200" y="5070600"/>
            <a:ext cx="1365120" cy="1168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010120" y="5070600"/>
            <a:ext cx="1365120" cy="11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95360" y="3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260280"/>
            <a:ext cx="8229600" cy="297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When I feel angry I c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Tell the person why I am ang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346560"/>
            <a:ext cx="8229600" cy="308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When I feel angry I can no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Hit the person who upset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24200" y="1974960"/>
            <a:ext cx="135396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353200" y="2089080"/>
            <a:ext cx="1209600" cy="1028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038320" y="4978440"/>
            <a:ext cx="1441440" cy="1225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896000" y="5070600"/>
            <a:ext cx="133344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95360" y="3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260280"/>
            <a:ext cx="8229600" cy="297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When I feel angry I c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Go for a walk to calm d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346560"/>
            <a:ext cx="8229600" cy="308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When I feel angry I can no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Throw something at the person who upset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896000" y="5070600"/>
            <a:ext cx="1333440" cy="1133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038320" y="1860480"/>
            <a:ext cx="1468440" cy="1257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009800" y="4978440"/>
            <a:ext cx="143028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95360" y="3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260280"/>
            <a:ext cx="8229600" cy="297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When I feel angry I c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Talk to a friend or adult about my feel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3346560"/>
            <a:ext cx="8229600" cy="308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When I feel angry I can no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Run away from home or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09800" y="1860480"/>
            <a:ext cx="1342800" cy="1133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524400" y="1860480"/>
            <a:ext cx="1342800" cy="1133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152800" y="5070600"/>
            <a:ext cx="1323720" cy="1133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3867120" y="4946760"/>
            <a:ext cx="1684440" cy="1438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6039000" y="4925880"/>
            <a:ext cx="1500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95360" y="3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260280"/>
            <a:ext cx="8229600" cy="297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When I feel angry I c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Take a big breath and count to 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3346560"/>
            <a:ext cx="8229600" cy="308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When I feel angry I can no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Smash the toy of the person who upset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67000" y="5070600"/>
            <a:ext cx="1333440" cy="1133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095720" y="5070600"/>
            <a:ext cx="1333440" cy="1133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042920" y="1844640"/>
            <a:ext cx="1333440" cy="1133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484360" y="1844640"/>
            <a:ext cx="5543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Foundation Style"/>
              </a:rPr>
              <a:t>1 2 3 4 5 6 7 8 9 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2520" y="4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333360"/>
            <a:ext cx="8229600" cy="594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When I feel angry there are people who can help me to feel be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I can help myself feel better when I try to use some of these things to stop the angry feeling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09800" y="3076560"/>
            <a:ext cx="2286000" cy="1925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010120" y="3076560"/>
            <a:ext cx="2171880" cy="1846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067200" y="4105440"/>
            <a:ext cx="2151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T User</cp:lastModifiedBy>
  <dcterms:modified xsi:type="dcterms:W3CDTF">2005-09-06T02:47:11Z</dcterms:modified>
  <cp:revision>2</cp:revision>
  <dc:subject/>
  <dc:title>PowerPoint Presentation</dc:title>
</cp:coreProperties>
</file>